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583-A60C-415C-8DE6-9EF0FF1C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3EE-9AAD-4290-84F5-B6EA833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EB1-482F-4979-BE1B-EA0827C7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0E1-6B4D-4D7C-BDDB-CB774716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D68-7F5E-401B-A472-0A090195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5FC-81DB-4E80-B421-B22EBFD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A66-81F3-4A02-8149-027A53CD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A3F-DF79-427A-89FC-4DA1D7A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E23-C589-4D94-A65B-E22108C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BC7-B5AD-45DC-B32C-0636370E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E61-64B4-4FA5-BA10-F90CE27B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61C-8AE8-43E2-AF42-E7D1F1D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BFD-FCF9-401A-AB29-6FA80384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v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rt Sa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0920" y="243828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08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4156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438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2405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24382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2240" y="2438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4440" y="243828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08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1932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9640" y="243828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2438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2438280"/>
            <a:ext cx="4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243828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438280"/>
            <a:ext cx="7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4382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684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40516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4382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75480" y="24382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728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04280" y="2438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43828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7720" y="2405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438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43828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4382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438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7040" y="24051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4382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4382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7560" y="243828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89680" y="2438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002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63376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6668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266688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666880"/>
            <a:ext cx="4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666880"/>
            <a:ext cx="7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66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2:24:25Z</dcterms:created>
  <dc:creator>Rutherford County Schools</dc:creator>
  <dc:description/>
  <dc:language>en-US</dc:language>
  <cp:lastModifiedBy>Rutherford County Schools</cp:lastModifiedBy>
  <dcterms:modified xsi:type="dcterms:W3CDTF">2007-04-21T15:51:04Z</dcterms:modified>
  <cp:revision>2</cp:revision>
  <dc:subject/>
  <dc:title>Rivet Heart Saver</dc:title>
</cp:coreProperties>
</file>